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C6B-04C1-4CE2-8894-C94F3A03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596-B67D-4B0D-ABD4-F94E0A58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CF683-449A-47D9-BDEF-30B7D2CE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187F5-0D9C-4CC6-BE86-3E835B3D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0CCCE-5165-424F-B43B-562B18A8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91A41-8856-4C48-B841-20F6DA3C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43741-02C5-41D4-A538-A72A6E02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85DDD-2D17-4966-AFD1-1039E6DA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51CD0-3CBF-4645-B7A3-9913F2D0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678E0-6943-4A5A-AE0F-67E7F37F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54B08-5724-4BD2-A386-1A198E32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430-D5CB-4DB9-B1A2-3393435B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4EF-E550-4E7F-93CE-90A914EB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E61B-48BA-443F-BDA1-B1DD7523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3D67-0940-493E-8B88-780DB1D1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9D48-CBB9-4740-A8EA-BF2F67D9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EA61-1BC1-48D0-9F22-AE202288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0A49-A875-4437-B9B2-E8D20879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4B7D-A210-4FC8-9134-D987BAE5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79F0-6259-4D22-A4D3-22CB573A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107-D2D4-46AC-B0FB-10C4EE03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2DA3-713B-4D71-AAEE-CFC0BB69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4647-55E7-4EB7-B414-C343CEFA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D1DF-688A-4812-9A51-9C9F45BD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819A-9F79-46E3-A7C8-F46DC5A5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6B6B-8900-4F94-8BF4-71BD5A65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6188-AB7C-4EBB-BE81-76A69953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B0A6-1EC2-4895-9566-3B1F4A27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1993-7ACE-4741-B6B9-D4DCE06B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2EE79-0141-4A6E-9402-EEACF270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2A5B-27C2-4708-8B29-1CFF1243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41A-2463-4F84-8DBE-B13410D5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6B08-90E1-411A-AB4F-F2BF1D46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88DC-1300-4A25-AF81-252E80D4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4486-EDC4-4E0B-8BED-CABE88B5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CB4E-19AA-4803-93F0-44E82636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01C5-2025-4413-A635-19E8847F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489F-C942-43C6-842B-E0987304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BBF7-B63C-45D4-84BF-45E5C76F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2722F-B2BD-4ABD-8C81-2CA444B1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8CEDC-B934-4329-8D40-B2BD72AE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FC45-799E-44E2-8AD3-81DE5323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8D3-2361-4C6F-8C94-B3D82C24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5B097-265C-47EB-A043-84F4E0B5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8B13-2A65-4E93-9337-CC6C15B4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395F-2FB4-439A-AD81-3F3FC7B4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15BFB-5E65-4923-AB80-6D33A19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C6E2-309C-4E14-808B-3CD08697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95301-5796-4089-8B5A-76D07DD7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647A-1575-4754-B291-EA7AB082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78CD-9FFB-426A-8C99-248832E8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3502-37E8-4050-81F4-E09FB599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CA847-E411-4174-993D-003F2944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AF0-B234-46FD-9A7F-17F3F80F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A5C1A-51EE-4E57-991A-2FE9374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F9D54-122A-401E-A644-49626BEA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98F6-FC4F-493C-AEFD-E20B98D1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3E154-7B72-43A3-B33D-E26DD881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BE9D6-3B49-46D5-9B08-F43B9FE2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E883-7FE0-46D1-A527-E72B476B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FC5E2-FB1D-4ED2-B0F7-5F061976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3316C-8CD4-427B-9C9F-EC3BECD9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CA74C-03BC-444A-A950-8A474EA6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95C7D-9C79-4AA4-9DF6-299BA4F3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04C-F99F-4406-899D-C473CD30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7B789-ADC0-4F88-8D89-E117783B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2E16-04D7-42CE-AE7E-B716B11A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A4966-ADFA-4E9D-BCF8-5A3A3D3F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D9122-D3A7-4B63-8458-33BC5780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CFCAE-D459-4350-B648-B3841D07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B43BA-E776-41A0-88E3-579237B6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C3897-29E5-404C-BC45-82C79973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875D6-A74C-4C71-9F44-FF8FFC33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CF1AA-1E89-442B-A220-EFB2726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67893-E39F-4F8B-80C5-0B23963E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67E-CEE8-4362-8408-EF5195C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273B-DFCA-4740-B2D2-B32CAF88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B635A-68F6-4E20-B5B1-A6C139BF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21113-C4C3-4D5F-9D13-F2C87DEA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3BAD0-68CA-4889-AF11-42EAC8F6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124D5-3D37-4B1E-8BC5-5FB84D6D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D9349-3891-4E33-A4E6-418A1E0B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760A8-C62F-4920-84B6-BD351D69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3B975-0CEE-4E17-8095-7401D65B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AD5FB-626E-4BBE-9235-DF2EBFBF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185BD-339A-4475-8CCD-4EA792F8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0F5-3068-4E09-BFD7-3AB1D228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E50EE-6576-45DB-847A-8E07CFA1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6AAE6-E5FD-41C0-8F9C-B90F54AE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F5D2D-2CAE-46C3-9365-FB3B2EC7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D28E8-BB63-4C63-B152-DCBF9A68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118B7-76AB-437B-82AD-3AF8697D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74438-5AC3-4FBC-B605-F33BE0DC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771D6-F3DB-4AAC-972C-F868E744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A5A7D-4BF0-491B-8A50-887AA487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89A04-9E26-41EC-AA77-76F6CD3F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DD962-D1CF-446E-BCB1-CA004285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8D0-B657-4F48-B8F3-EB4D9CA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71DCA-9D11-4508-9030-4A7EC557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2EE44-8572-449A-873A-10FBCF74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2FB31-C881-4A7F-AF49-D080FF31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9F466-716C-4949-8E94-F327E22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60D1F-F565-4BAA-A621-7CF6023E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734B4-C0D4-4F38-A87E-06950D60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82F12-CACF-4AB4-B0A8-F2E51300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77E76-B02B-4C72-A870-52DE5B23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3BDD5-94C7-4D7F-BA91-E9D0F0FC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A524D-C68C-4463-BA6E-4F441F71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23C1-3B76-43DB-8C2F-CE076BD539F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F354-67AD-4F0B-8A5F-03B3D94B1E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D2AF-15BA-49DC-863B-05A84E5262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0172-B046-4FBA-9109-17B3281BE0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DDD3-0441-4BE2-A250-A391576C02E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D247-0558-4CCB-8117-C5AECE19F7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55CE-A2FF-4B8E-A3CA-5790C0C6AB1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7218-3995-41B1-9F1C-46D31DCDFBD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5A08-941F-458D-891B-76C47BE0B21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Perpetua"/>
              </a:rPr>
              <a:t>Ionic Bonding</a:t>
            </a:r>
            <a:endParaRPr b="0" lang="en-US" sz="4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Perpetua"/>
              </a:rPr>
              <a:t>Naming Chemical Compounds</a:t>
            </a:r>
            <a:endParaRPr b="0" lang="en-US" sz="4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hapters 7 and 9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lloy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oys are mixtures of met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perties of alloys are usually superior to those of their component elemen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9" name="Picture 2" descr="http://wps.prenhall.com/wps/media/objects/3313/3392987/imag2306/AAAYOGN0.JPG"/>
          <p:cNvPicPr/>
          <p:nvPr/>
        </p:nvPicPr>
        <p:blipFill>
          <a:blip r:embed="rId1"/>
          <a:srcRect l="0" t="0" r="0" b="13280"/>
          <a:stretch/>
        </p:blipFill>
        <p:spPr>
          <a:xfrm>
            <a:off x="2494080" y="4056120"/>
            <a:ext cx="4286160" cy="2122560"/>
          </a:xfrm>
          <a:prstGeom prst="rect">
            <a:avLst/>
          </a:prstGeom>
          <a:ln w="0">
            <a:noFill/>
          </a:ln>
        </p:spPr>
      </p:pic>
      <p:sp>
        <p:nvSpPr>
          <p:cNvPr id="460" name="TextBox 3"/>
          <p:cNvSpPr/>
          <p:nvPr/>
        </p:nvSpPr>
        <p:spPr>
          <a:xfrm>
            <a:off x="152280" y="4886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ional All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>
            <a:off x="6838920" y="4886280"/>
            <a:ext cx="17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titial All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http://image.made-in-china.com/2f0j00eBmELsvKltYA/Lead-Brass-HPB58-3-HPB59-1-C3771-.jpg"/>
          <p:cNvPicPr/>
          <p:nvPr/>
        </p:nvPicPr>
        <p:blipFill>
          <a:blip r:embed="rId2"/>
          <a:stretch/>
        </p:blipFill>
        <p:spPr>
          <a:xfrm>
            <a:off x="1819440" y="2881440"/>
            <a:ext cx="1706400" cy="1361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http://image.made-in-china.com/2f0j00MvtQpYNRJBrs/Stainless-Steel-Perforated-Sheet-HDP05-.jpg"/>
          <p:cNvPicPr/>
          <p:nvPr/>
        </p:nvPicPr>
        <p:blipFill>
          <a:blip r:embed="rId3"/>
          <a:stretch/>
        </p:blipFill>
        <p:spPr>
          <a:xfrm>
            <a:off x="3824280" y="2908440"/>
            <a:ext cx="1438200" cy="1076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http://t3.gstatic.com/images?q=tbn:ANd9GcR8TwWrq07MrtbKL9DbTQp5zACAufcxBaKWnRGVrwXCXBKxNQcWgfX98lXM"/>
          <p:cNvPicPr/>
          <p:nvPr/>
        </p:nvPicPr>
        <p:blipFill>
          <a:blip r:embed="rId4"/>
          <a:stretch/>
        </p:blipFill>
        <p:spPr>
          <a:xfrm>
            <a:off x="5629320" y="2847960"/>
            <a:ext cx="12002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calling the Periodic Table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57200" y="1676520"/>
          <a:ext cx="8229600" cy="4700520"/>
        </p:xfrm>
        <a:graphic>
          <a:graphicData uri="http://schemas.openxmlformats.org/drawingml/2006/table">
            <a:tbl>
              <a:tblPr/>
              <a:tblGrid>
                <a:gridCol w="2541600"/>
                <a:gridCol w="1906560"/>
                <a:gridCol w="1844640"/>
                <a:gridCol w="1936800"/>
              </a:tblGrid>
              <a:tr h="79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Le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nmetals (Rig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ll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on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hysical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flect ligh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leability/Ductility: hammered/draw to wi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lting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duct heat/electricit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TextBox 1"/>
          <p:cNvSpPr/>
          <p:nvPr/>
        </p:nvSpPr>
        <p:spPr>
          <a:xfrm>
            <a:off x="3048120" y="25909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xcept H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4"/>
          <p:cNvSpPr/>
          <p:nvPr/>
        </p:nvSpPr>
        <p:spPr>
          <a:xfrm>
            <a:off x="4952880" y="25909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or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xcept B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"/>
          <p:cNvSpPr/>
          <p:nvPr/>
        </p:nvSpPr>
        <p:spPr>
          <a:xfrm>
            <a:off x="6837480" y="2590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3068640" y="33526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7"/>
          <p:cNvSpPr/>
          <p:nvPr/>
        </p:nvSpPr>
        <p:spPr>
          <a:xfrm>
            <a:off x="4952880" y="33400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8"/>
          <p:cNvSpPr/>
          <p:nvPr/>
        </p:nvSpPr>
        <p:spPr>
          <a:xfrm>
            <a:off x="6837480" y="33228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3057480" y="4191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4952880" y="4191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6805440" y="4191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3068640" y="50292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&gt; 80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3"/>
          <p:cNvSpPr/>
          <p:nvPr/>
        </p:nvSpPr>
        <p:spPr>
          <a:xfrm>
            <a:off x="4952880" y="5029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4"/>
          <p:cNvSpPr/>
          <p:nvPr/>
        </p:nvSpPr>
        <p:spPr>
          <a:xfrm>
            <a:off x="6805440" y="5013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5"/>
          <p:cNvSpPr/>
          <p:nvPr/>
        </p:nvSpPr>
        <p:spPr>
          <a:xfrm>
            <a:off x="3078000" y="58672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6"/>
          <p:cNvSpPr/>
          <p:nvPr/>
        </p:nvSpPr>
        <p:spPr>
          <a:xfrm>
            <a:off x="4923000" y="5867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7"/>
          <p:cNvSpPr/>
          <p:nvPr/>
        </p:nvSpPr>
        <p:spPr>
          <a:xfrm>
            <a:off x="6837480" y="5867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83" name="Picture 6" descr="periodic_col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0" y="221760"/>
            <a:ext cx="51292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eriodic Table Re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41000" y="274284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Grou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vertical columns within the periodic tabl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77800" indent="-577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Representative element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 group “A” elements (columns1,2, 13-18 or s and p block elements)</a:t>
            </a:r>
            <a:endParaRPr b="0" lang="en-US" sz="2100" spc="-1" strike="noStrike">
              <a:solidFill>
                <a:srgbClr val="000000"/>
              </a:solidFill>
              <a:latin typeface="Perpetua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Perpetua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Transition met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 group “B” elements (columns 3-12 or d block elements).  Also include inner transition elements or f block elements.</a:t>
            </a:r>
            <a:endParaRPr b="0" lang="en-US" sz="2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105160" y="175248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mportant families of elem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lkali Metals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als in group 1A that form +1 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lkaline Earth Meta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metals in group 2A that form +2 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aloge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nonmetals in group 7A that form -1 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oble ga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Nonmetals located in far right column that are generally nonreactiv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AutoShape 8"/>
          <p:cNvSpPr/>
          <p:nvPr/>
        </p:nvSpPr>
        <p:spPr>
          <a:xfrm>
            <a:off x="63360" y="-155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216000" y="-3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404640" y="609480"/>
            <a:ext cx="16862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toms vs. 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320" y="3733920"/>
            <a:ext cx="9067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t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NEUTRAL species with equal number of protons and electr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HARGED species with unequal number of protons and electr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(+) ion [lost electron(s)]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(-) ion [gained electron(s)]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2" name="Picture 8" descr="atom_ion_na"/>
          <p:cNvPicPr/>
          <p:nvPr/>
        </p:nvPicPr>
        <p:blipFill>
          <a:blip r:embed="rId1"/>
          <a:stretch/>
        </p:blipFill>
        <p:spPr>
          <a:xfrm>
            <a:off x="3733920" y="609480"/>
            <a:ext cx="29336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und- collection of atoms that is NEUTRAL over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lecular compound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sed of nonmeta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onic compou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composed of cations and anions (metal ions and nonmetal ions) in a crystal latti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5" name="Picture 5" descr="nacl1"/>
          <p:cNvPicPr/>
          <p:nvPr/>
        </p:nvPicPr>
        <p:blipFill>
          <a:blip r:embed="rId1"/>
          <a:stretch/>
        </p:blipFill>
        <p:spPr>
          <a:xfrm>
            <a:off x="1447920" y="3886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compounds_molecules"/>
          <p:cNvPicPr/>
          <p:nvPr/>
        </p:nvPicPr>
        <p:blipFill>
          <a:blip r:embed="rId2"/>
          <a:stretch/>
        </p:blipFill>
        <p:spPr>
          <a:xfrm>
            <a:off x="4343400" y="3809880"/>
            <a:ext cx="39625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erpreting Chemical Formul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preting Formul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lecular formul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indicates type and amount of each atom in a compou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atomic molecu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Br I N Cl H O F exist as two atom molecules when ALONE!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xample:  B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mula un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lowest ratio of ions in an ionic compound (so that charge is zer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o of Atoms in a Compou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w of Definite Propor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w of Multiple Proportions (Examples: 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Writing Formulas of Molecular Compounds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ing Formulas (Example: Carbon Dioxid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tal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lement (or least electronegative)first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x: carbon before oxyge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symbols for each element next to one anoth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x: C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subscripts to relate number of each atom in the molecule (Ex: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O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ek Prefixes- KNOW: mono-, di-, tri-, tetra-, penta-, hexa-, hepta-, octa-, nona-, deca-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ming Molecular Compound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ming Binary Molecular Compounds (Ex: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in order appearing in formula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x: sulfur oxyge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ending of last element with -ide (Ex: sulfur oxid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prefixes to indicate number of each atom in molecule (Ex: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ulfur trioxi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e: mono is dropped if there is only one of the first atom.  It is used if there is only one of the second atom. (example: CO is named carbon monoxi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ming Ionic 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ations are given the element’s nam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odi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lor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  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tassi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lor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atomic anions end in –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= Lithium br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4" marL="25700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= Magnesium sul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4" marL="25700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yatomic ions usually end in –ate or –i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s: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2819520" y="5376960"/>
            <a:ext cx="533160" cy="457200"/>
          </a:xfrm>
          <a:prstGeom prst="rect">
            <a:avLst/>
          </a:prstGeom>
          <a:solidFill>
            <a:srgbClr val="d34817">
              <a:alpha val="4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Valence Electr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s with similar chemical behavior have the same number of valence electron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representative elements (1A, 2A, 3A, 4A, 5A, 6A, 7A, 8A) the group number corresponds to the number of valence electron in each group (with the exception of H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examining electron configurations, the electrons that are present in the highest principle energy level represent the valence electrons of those atom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447920" y="5376960"/>
            <a:ext cx="457200" cy="457200"/>
          </a:xfrm>
          <a:prstGeom prst="rect">
            <a:avLst/>
          </a:prstGeom>
          <a:solidFill>
            <a:srgbClr val="d34817">
              <a:alpha val="4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52280" y="53434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:  [Ar]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mine has 7 valenc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riting Formulas of Ionic Compound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8052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ing Formulas of Ionic Compounds  (Ex: sodium oxid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charge on metal and nonmetal ions- (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ss-cross superscripts to balance charges (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if total formula has 0 charg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2  Na ions @ +1) + (1 O ion @ -2) = 0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nswer with subscripts (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e: Polyatomic (many atom) ions are written same except parenthesis are put around them if subscripts are a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308240" indent="-5781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 Magnesium hydroxi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308240" indent="-5781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+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Stock System- transition metal ion charg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52280" y="1599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40080" indent="-6400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metals can exist in several forms (Ex: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formula used to decide which ion is present (Ex: Cu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must be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naming the ion the charge number is represented in roman numerals in parenthesis following the element  name  (Ex: copper (II) chloride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*  This is only done for elements that can have more than one possible charge. Refer to your ion table*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i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ids- form hydronium ions in water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ary Acids contain H and one non-metal  (HCl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308240" indent="-5781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mes of binary acids always begin with hydro and are completed by dropping the ending of the nonmetal and adding  -i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308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 = Hydrochloric Aci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308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11" name="Picture 5" descr="Acid_med"/>
          <p:cNvPicPr/>
          <p:nvPr/>
        </p:nvPicPr>
        <p:blipFill>
          <a:blip r:embed="rId1"/>
          <a:stretch/>
        </p:blipFill>
        <p:spPr>
          <a:xfrm>
            <a:off x="7696080" y="457200"/>
            <a:ext cx="990720" cy="1219320"/>
          </a:xfrm>
          <a:prstGeom prst="rect">
            <a:avLst/>
          </a:prstGeom>
          <a:ln w="0">
            <a:noFill/>
          </a:ln>
        </p:spPr>
      </p:pic>
      <p:sp>
        <p:nvSpPr>
          <p:cNvPr id="512" name="TextBox 7"/>
          <p:cNvSpPr/>
          <p:nvPr/>
        </p:nvSpPr>
        <p:spPr>
          <a:xfrm>
            <a:off x="304920" y="3429000"/>
            <a:ext cx="87627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xyacids contain H and a polyatomic anion which cont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xyacids are named by dropping the –ate or –ite ending from the anion and adding –ic or –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Hydrogen plus sul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sulfu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Hydrogen plus sul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sulfu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2"/>
          <a:stretch/>
        </p:blipFill>
        <p:spPr>
          <a:xfrm>
            <a:off x="762120" y="548640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"/>
          <p:cNvSpPr/>
          <p:nvPr/>
        </p:nvSpPr>
        <p:spPr>
          <a:xfrm>
            <a:off x="2133720" y="5908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:  If you “ate” acid, you might say “ic”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30040" y="380880"/>
            <a:ext cx="868680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Valence Electrons and Electron Dot Structur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09720" y="1047600"/>
            <a:ext cx="7772400" cy="706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lence electrons are the electrons that participate in chemical bon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dot structures consist of the atom symbol and its valence electrons represented as do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9" name="Picture 2" descr="http://msnugentisawesome.wikispaces.com/file/view/lewis_dot_diagram_chem.gif/34576165/lewis_dot_diagram_chem.gif"/>
          <p:cNvPicPr/>
          <p:nvPr/>
        </p:nvPicPr>
        <p:blipFill>
          <a:blip r:embed="rId1"/>
          <a:srcRect l="0" t="12261" r="0" b="14739"/>
          <a:stretch/>
        </p:blipFill>
        <p:spPr>
          <a:xfrm>
            <a:off x="2438280" y="4168800"/>
            <a:ext cx="4791240" cy="20797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795920" y="3629160"/>
            <a:ext cx="304560" cy="272880"/>
          </a:xfrm>
          <a:prstGeom prst="rect">
            <a:avLst/>
          </a:prstGeom>
          <a:solidFill>
            <a:srgbClr val="d34817">
              <a:alpha val="38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5632560" y="3629160"/>
            <a:ext cx="304560" cy="272880"/>
          </a:xfrm>
          <a:prstGeom prst="rect">
            <a:avLst/>
          </a:prstGeom>
          <a:solidFill>
            <a:srgbClr val="d34817">
              <a:alpha val="38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754440" y="3581280"/>
            <a:ext cx="21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:  [Ar]4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Straight Arrow Connector 10"/>
          <p:cNvCxnSpPr>
            <a:stCxn id="412" idx="2"/>
          </p:cNvCxnSpPr>
          <p:nvPr/>
        </p:nvCxnSpPr>
        <p:spPr>
          <a:xfrm>
            <a:off x="4835520" y="3951360"/>
            <a:ext cx="1566000" cy="1257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4" name="Straight Connector 12"/>
          <p:cNvSpPr/>
          <p:nvPr/>
        </p:nvSpPr>
        <p:spPr>
          <a:xfrm>
            <a:off x="5784840" y="3902040"/>
            <a:ext cx="12240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Octet Rule - Metal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tals tend to lose electrons to gain stability.  When they lose electrons they attain a stable electron configuration where the next lowest-energy level has a full octe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7" name="Picture 2" descr="http://www.marin.edu/homepages/ErikDunmire/CHEM105/Concept_Review/Images/Cation_Formation.jpg"/>
          <p:cNvPicPr/>
          <p:nvPr/>
        </p:nvPicPr>
        <p:blipFill>
          <a:blip r:embed="rId1"/>
          <a:stretch/>
        </p:blipFill>
        <p:spPr>
          <a:xfrm>
            <a:off x="533520" y="3473280"/>
            <a:ext cx="4887720" cy="2907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www.middleschoolchemistry.com/img/content/multimedia/chapter_4/lesson_6/ionic_bond_sodium_chloride_1.jpg"/>
          <p:cNvPicPr/>
          <p:nvPr/>
        </p:nvPicPr>
        <p:blipFill>
          <a:blip r:embed="rId2"/>
          <a:srcRect l="0" t="55241" r="50013" b="0"/>
          <a:stretch/>
        </p:blipFill>
        <p:spPr>
          <a:xfrm>
            <a:off x="5362560" y="5257800"/>
            <a:ext cx="1428840" cy="12794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http://www.middleschoolchemistry.com/img/content/multimedia/chapter_4/lesson_6/ionic_bond_sodium_chloride_3.jpg"/>
          <p:cNvPicPr/>
          <p:nvPr/>
        </p:nvPicPr>
        <p:blipFill>
          <a:blip r:embed="rId3"/>
          <a:srcRect l="0" t="57344" r="50013" b="0"/>
          <a:stretch/>
        </p:blipFill>
        <p:spPr>
          <a:xfrm>
            <a:off x="7230960" y="5073480"/>
            <a:ext cx="1530360" cy="1306800"/>
          </a:xfrm>
          <a:prstGeom prst="rect">
            <a:avLst/>
          </a:prstGeom>
          <a:ln w="0">
            <a:noFill/>
          </a:ln>
        </p:spPr>
      </p:pic>
      <p:cxnSp>
        <p:nvCxnSpPr>
          <p:cNvPr id="420" name="Straight Arrow Connector 4"/>
          <p:cNvCxnSpPr/>
          <p:nvPr/>
        </p:nvCxnSpPr>
        <p:spPr>
          <a:xfrm>
            <a:off x="6838920" y="5897160"/>
            <a:ext cx="705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Octet Rule – Non-met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metals tend to gain electrons to obtain a full octet in their highest occupied p sub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3" name="Picture 2" descr="http://www.middleschoolchemistry.com/img/content/multimedia/chapter_4/lesson_6/ionic_bond_sodium_chloride_3.jpg"/>
          <p:cNvPicPr/>
          <p:nvPr/>
        </p:nvPicPr>
        <p:blipFill>
          <a:blip r:embed="rId1"/>
          <a:srcRect l="50013" t="60191" r="0" b="0"/>
          <a:stretch/>
        </p:blipFill>
        <p:spPr>
          <a:xfrm>
            <a:off x="7143840" y="4979880"/>
            <a:ext cx="1544400" cy="1230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middleschoolchemistry.com/img/content/multimedia/chapter_4/lesson_6/ionic_bond_sodium_chloride_1.jpg"/>
          <p:cNvPicPr/>
          <p:nvPr/>
        </p:nvPicPr>
        <p:blipFill>
          <a:blip r:embed="rId2"/>
          <a:srcRect l="50013" t="53716" r="0" b="0"/>
          <a:stretch/>
        </p:blipFill>
        <p:spPr>
          <a:xfrm>
            <a:off x="5276880" y="4979880"/>
            <a:ext cx="1428840" cy="1322640"/>
          </a:xfrm>
          <a:prstGeom prst="rect">
            <a:avLst/>
          </a:prstGeom>
          <a:ln w="0">
            <a:noFill/>
          </a:ln>
        </p:spPr>
      </p:pic>
      <p:cxnSp>
        <p:nvCxnSpPr>
          <p:cNvPr id="425" name="Straight Arrow Connector 4"/>
          <p:cNvCxnSpPr/>
          <p:nvPr/>
        </p:nvCxnSpPr>
        <p:spPr>
          <a:xfrm>
            <a:off x="6400440" y="564156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26" name="Picture 6" descr="http://www.bbc.co.uk/schools/gcsebitesize/science/images/diag_chlorine.gif"/>
          <p:cNvPicPr/>
          <p:nvPr/>
        </p:nvPicPr>
        <p:blipFill>
          <a:blip r:embed="rId3"/>
          <a:srcRect l="0" t="0" r="0" b="11977"/>
          <a:stretch/>
        </p:blipFill>
        <p:spPr>
          <a:xfrm>
            <a:off x="2133720" y="2438280"/>
            <a:ext cx="40384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Formation of Ionic Compoun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380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tions and anions combine to form ionic compoun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9" name="Picture 2" descr="http://kgortney.pbworks.com/f/1288107836/ionic_bond.jpg"/>
          <p:cNvPicPr/>
          <p:nvPr/>
        </p:nvPicPr>
        <p:blipFill>
          <a:blip r:embed="rId1"/>
          <a:srcRect l="0" t="2881" r="0" b="3086"/>
          <a:stretch/>
        </p:blipFill>
        <p:spPr>
          <a:xfrm>
            <a:off x="533520" y="1542960"/>
            <a:ext cx="3260520" cy="3997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http://www.middleschoolchemistry.com/img/content/multimedia/chapter_4/lesson_6/ionic_bond_sodium_chloride_1.jpg"/>
          <p:cNvPicPr/>
          <p:nvPr/>
        </p:nvPicPr>
        <p:blipFill>
          <a:blip r:embed="rId2"/>
          <a:srcRect l="0" t="55241" r="50013" b="0"/>
          <a:stretch/>
        </p:blipFill>
        <p:spPr>
          <a:xfrm>
            <a:off x="1182600" y="5640480"/>
            <a:ext cx="901800" cy="806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http://www.middleschoolchemistry.com/img/content/multimedia/chapter_4/lesson_6/ionic_bond_sodium_chloride_3.jpg"/>
          <p:cNvPicPr/>
          <p:nvPr/>
        </p:nvPicPr>
        <p:blipFill>
          <a:blip r:embed="rId3"/>
          <a:srcRect l="0" t="57344" r="50013" b="0"/>
          <a:stretch/>
        </p:blipFill>
        <p:spPr>
          <a:xfrm>
            <a:off x="3753000" y="5446800"/>
            <a:ext cx="1123920" cy="958680"/>
          </a:xfrm>
          <a:prstGeom prst="rect">
            <a:avLst/>
          </a:prstGeom>
          <a:ln w="0">
            <a:noFill/>
          </a:ln>
        </p:spPr>
      </p:pic>
      <p:cxnSp>
        <p:nvCxnSpPr>
          <p:cNvPr id="432" name="Straight Arrow Connector 6"/>
          <p:cNvCxnSpPr/>
          <p:nvPr/>
        </p:nvCxnSpPr>
        <p:spPr>
          <a:xfrm>
            <a:off x="3282840" y="6019560"/>
            <a:ext cx="705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33" name="Picture 2" descr="http://www.middleschoolchemistry.com/img/content/multimedia/chapter_4/lesson_6/ionic_bond_sodium_chloride_3.jpg"/>
          <p:cNvPicPr/>
          <p:nvPr/>
        </p:nvPicPr>
        <p:blipFill>
          <a:blip r:embed="rId4"/>
          <a:srcRect l="50013" t="60191" r="0" b="0"/>
          <a:stretch/>
        </p:blipFill>
        <p:spPr>
          <a:xfrm>
            <a:off x="5334120" y="5506920"/>
            <a:ext cx="1145880" cy="912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http://www.middleschoolchemistry.com/img/content/multimedia/chapter_4/lesson_6/ionic_bond_sodium_chloride_1.jpg"/>
          <p:cNvPicPr/>
          <p:nvPr/>
        </p:nvPicPr>
        <p:blipFill>
          <a:blip r:embed="rId5"/>
          <a:srcRect l="50013" t="53716" r="0" b="0"/>
          <a:stretch/>
        </p:blipFill>
        <p:spPr>
          <a:xfrm>
            <a:off x="2487600" y="5640480"/>
            <a:ext cx="901800" cy="834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1954080" y="56959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0"/>
          <p:cNvSpPr/>
          <p:nvPr/>
        </p:nvSpPr>
        <p:spPr>
          <a:xfrm>
            <a:off x="4789440" y="56437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Straight Arrow Connector 11"/>
          <p:cNvCxnSpPr/>
          <p:nvPr/>
        </p:nvCxnSpPr>
        <p:spPr>
          <a:xfrm>
            <a:off x="6324480" y="5925600"/>
            <a:ext cx="705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TextBox 9"/>
          <p:cNvSpPr/>
          <p:nvPr/>
        </p:nvSpPr>
        <p:spPr>
          <a:xfrm>
            <a:off x="7093440" y="5540400"/>
            <a:ext cx="119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a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http://t2.gstatic.com/images?q=tbn:ANd9GcTKKfuDVMzlk2i2J5wzAmcgQ8BBKiSFp1lGu82-JVAQLrffQzS2pw"/>
          <p:cNvPicPr/>
          <p:nvPr/>
        </p:nvPicPr>
        <p:blipFill>
          <a:blip r:embed="rId6"/>
          <a:stretch/>
        </p:blipFill>
        <p:spPr>
          <a:xfrm>
            <a:off x="4308480" y="1770120"/>
            <a:ext cx="3871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Formation of Calcium Chlor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41" name="Picture 2" descr="http://www.acsmars.com/scholar/Chemistry/images/Ionic%20Bond%20Ca%20Cl2.png"/>
          <p:cNvPicPr/>
          <p:nvPr/>
        </p:nvPicPr>
        <p:blipFill>
          <a:blip r:embed="rId1"/>
          <a:srcRect l="0" t="0" r="0" b="11647"/>
          <a:stretch/>
        </p:blipFill>
        <p:spPr>
          <a:xfrm>
            <a:off x="1360440" y="1371600"/>
            <a:ext cx="6067440" cy="3189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http://t3.gstatic.com/images?q=tbn:ANd9GcSqGC5WS1wR3ATyHqAOMgXA5aYRI6Q6_F7f5vMDiLRHTO0g6FPI"/>
          <p:cNvPicPr/>
          <p:nvPr/>
        </p:nvPicPr>
        <p:blipFill>
          <a:blip r:embed="rId2"/>
          <a:srcRect l="0" t="0" r="0" b="44580"/>
          <a:stretch/>
        </p:blipFill>
        <p:spPr>
          <a:xfrm>
            <a:off x="609480" y="5230800"/>
            <a:ext cx="2876760" cy="882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http://t3.gstatic.com/images?q=tbn:ANd9GcSqGC5WS1wR3ATyHqAOMgXA5aYRI6Q6_F7f5vMDiLRHTO0g6FPI"/>
          <p:cNvPicPr/>
          <p:nvPr/>
        </p:nvPicPr>
        <p:blipFill>
          <a:blip r:embed="rId3"/>
          <a:srcRect l="0" t="50011" r="0" b="0"/>
          <a:stretch/>
        </p:blipFill>
        <p:spPr>
          <a:xfrm>
            <a:off x="4114800" y="5205240"/>
            <a:ext cx="2876400" cy="795600"/>
          </a:xfrm>
          <a:prstGeom prst="rect">
            <a:avLst/>
          </a:prstGeom>
          <a:ln w="0">
            <a:noFill/>
          </a:ln>
        </p:spPr>
      </p:pic>
      <p:cxnSp>
        <p:nvCxnSpPr>
          <p:cNvPr id="444" name="Straight Arrow Connector 5"/>
          <p:cNvCxnSpPr/>
          <p:nvPr/>
        </p:nvCxnSpPr>
        <p:spPr>
          <a:xfrm>
            <a:off x="3486240" y="5646240"/>
            <a:ext cx="629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Straight Arrow Connector 9"/>
          <p:cNvCxnSpPr/>
          <p:nvPr/>
        </p:nvCxnSpPr>
        <p:spPr>
          <a:xfrm>
            <a:off x="6858000" y="5614560"/>
            <a:ext cx="629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TextBox 6"/>
          <p:cNvSpPr/>
          <p:nvPr/>
        </p:nvSpPr>
        <p:spPr>
          <a:xfrm>
            <a:off x="7514640" y="5248440"/>
            <a:ext cx="1262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a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perties of Ionic 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001880" y="1142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hemical formula for an ionic compound is called a formula unit which represents the lowest who number ration of atoms in that compound ( ex. NaCl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ionic compounds are crystalline solids at room tempera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ic compounds generally have very high melting poi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ic compounds can conduct electricity when molten or dissolved in wat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49" name="Picture 2" descr="http://t3.gstatic.com/images?q=tbn:ANd9GcRsoS4zesRNnVuemY2Q7uBVgKuiRRBY_IbAv4b-s9eCbAxUYbSiWw"/>
          <p:cNvPicPr/>
          <p:nvPr/>
        </p:nvPicPr>
        <p:blipFill>
          <a:blip r:embed="rId1"/>
          <a:stretch/>
        </p:blipFill>
        <p:spPr>
          <a:xfrm>
            <a:off x="5334120" y="3873600"/>
            <a:ext cx="2590560" cy="277020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85800" y="4419720"/>
            <a:ext cx="420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ordination Numb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The number of ions of opposite charge surrounding  the ion in a crys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5105520" y="2344680"/>
            <a:ext cx="3627360" cy="37512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417528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etallic Bond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itive metal ions floating in a sea of electrons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4" name="Picture 2" descr="http://geology10.gomyclass.com/files/lecture2/html/images/slides/slide38.jpg"/>
          <p:cNvPicPr/>
          <p:nvPr/>
        </p:nvPicPr>
        <p:blipFill>
          <a:blip r:embed="rId1"/>
          <a:srcRect l="52619" t="28252" r="0" b="7307"/>
          <a:stretch/>
        </p:blipFill>
        <p:spPr>
          <a:xfrm>
            <a:off x="5181480" y="2449440"/>
            <a:ext cx="3475080" cy="35449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4"/>
          <p:cNvSpPr/>
          <p:nvPr/>
        </p:nvSpPr>
        <p:spPr>
          <a:xfrm>
            <a:off x="174600" y="2421000"/>
            <a:ext cx="48546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s are excellent conductors of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s can be easily de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y are malleable and duct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"/>
          <p:cNvSpPr/>
          <p:nvPr/>
        </p:nvSpPr>
        <p:spPr>
          <a:xfrm>
            <a:off x="304920" y="479412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at metals are arranged in crystalline structures, but do not worry about the arrangement of these structures:  face-centered, body-centered, hex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5:15:10Z</dcterms:created>
  <dc:creator>udsd</dc:creator>
  <dc:description/>
  <dc:language>en-US</dc:language>
  <cp:lastModifiedBy>Dawn</cp:lastModifiedBy>
  <dcterms:modified xsi:type="dcterms:W3CDTF">2013-01-29T23:36:24Z</dcterms:modified>
  <cp:revision>27</cp:revision>
  <dc:subject/>
  <dc:title>Chapter 5</dc:title>
</cp:coreProperties>
</file>